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0085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04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3801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2D06-351B-48F9-91A1-1F9B6FB3F97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704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4032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51280" y="938052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52D1-2A40-46CA-874D-E72DFA3DE8E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458-2E33-49D6-816D-FCD27B1E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4027-70EF-4F86-9AEA-D85BAE8D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8E41-58A8-4782-BC6A-92DE18FA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A3A0-5536-4EAB-80E8-25D26E8E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25B8-9F17-42DF-94FB-3B28C3EE5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ED0-7C49-4F64-B63F-C982E44C8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6D8-772F-4B86-8ED9-6322C92B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2A9B-0DE7-4528-97C8-DBD20B5D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89D-3B02-4C70-9198-3598C3D5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8026-55F6-4520-BED5-AAD91D31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699-FC13-4D0E-9C7D-E8FFBA52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0B49-052A-4794-96E7-0A2C304E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3b435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d2611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6B70-BAFE-47B6-B744-AD4B5ADD3FC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D5AB-63C9-4F22-B7E3-EACE766E1E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6840" y="1428840"/>
            <a:ext cx="4040280" cy="48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Действующие  в 2010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8920" y="1988640"/>
            <a:ext cx="42483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2 дня заболевани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(травмы)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пособия осуществляется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</a:t>
            </a:r>
            <a:r>
              <a:rPr b="1" lang="en-US" sz="15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всем местам работы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из  заработка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последние 12 календарных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месяцев, предшествующих месяцу наступления страхового случая;</a:t>
            </a:r>
            <a:r>
              <a:rPr b="0" lang="ru-RU" sz="15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путем деления общего заработка за расчетный период на число календарных дней, за которые начислен заработок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3280" y="1484280"/>
            <a:ext cx="4043520" cy="4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33cc"/>
                </a:solidFill>
                <a:uFillTx/>
                <a:latin typeface="Calibri"/>
              </a:rPr>
              <a:t>Будут действовать в 2011 год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00720" y="1989000"/>
            <a:ext cx="446544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За счет средств работодателя оплачиваются первые 3 дня заболевания (травмы);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плата либо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 всем местам работы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либо только по одному месту  работы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по выбору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застрахованного лица с учетом заработка у других работодателей; 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en-US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счисление пособий  осуществляется  из среднего заработка  </a:t>
            </a:r>
            <a:r>
              <a:rPr b="1" lang="ru-RU" sz="1500" spc="-1" strike="noStrike" u="sng">
                <a:solidFill>
                  <a:srgbClr val="003300"/>
                </a:solidFill>
                <a:uFillTx/>
                <a:latin typeface="Arial"/>
              </a:rPr>
              <a:t>за два календарных года,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 предшествующих году наступления  страхового случая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Arial"/>
              </a:rPr>
              <a:t>4.</a:t>
            </a:r>
            <a:r>
              <a:rPr b="1" lang="ru-RU" sz="15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Средний дневной заработок определяется  путем деления  общего заработка на 730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7490520" y="1116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179280" y="40464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Условия назначения,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Tahoma"/>
              </a:rPr>
              <a:t>пособий по временной нетрудоспособности, по беременности 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9E4-742D-45B2-95C2-30987ADCB8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2618F-8E38-4FFE-9D77-A9ECD7886D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357120" y="357120"/>
            <a:ext cx="8286840" cy="62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3. Замена одного (двух) календарных годов,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которых отсутствует заработок для исчисления  пособий (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ч. 1 ст. 14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Причины отсутствия заработка</a:t>
            </a: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словия замены календарных годов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4. Перерасчет пособия за прошлое время</a:t>
            </a:r>
            <a:r>
              <a:rPr b="1" lang="en-US" sz="1800" spc="-1" strike="noStrike">
                <a:solidFill>
                  <a:srgbClr val="0000ff"/>
                </a:solidFill>
                <a:latin typeface="Tahoma"/>
              </a:rPr>
              <a:t>,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но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не более чем за три года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, предшествующих дню представления  справок   (справки) о сумме заработка (ч. 2.1 ст. 15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Скругленный прямоугольник 2"/>
          <p:cNvSpPr/>
          <p:nvPr/>
        </p:nvSpPr>
        <p:spPr>
          <a:xfrm>
            <a:off x="539640" y="1700280"/>
            <a:ext cx="396108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беременности и рода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Скругленный прямоугольник 3"/>
          <p:cNvSpPr/>
          <p:nvPr/>
        </p:nvSpPr>
        <p:spPr>
          <a:xfrm>
            <a:off x="5003640" y="1700280"/>
            <a:ext cx="374508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Calibri"/>
              </a:rPr>
              <a:t>Отпуск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634920" y="1197000"/>
            <a:ext cx="57636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197000"/>
            <a:ext cx="504720" cy="43164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Скругленный прямоугольник 2"/>
          <p:cNvSpPr/>
          <p:nvPr/>
        </p:nvSpPr>
        <p:spPr>
          <a:xfrm>
            <a:off x="32400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 осуществляется по заявлению застрахованного лица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Скругленный прямоугольник 2"/>
          <p:cNvSpPr/>
          <p:nvPr/>
        </p:nvSpPr>
        <p:spPr>
          <a:xfrm>
            <a:off x="4859280" y="3068640"/>
            <a:ext cx="396072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cc"/>
              </a:gs>
              <a:gs pos="100000">
                <a:srgbClr val="a3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  <a:effectLst>
            <a:outerShdw dist="153753" dir="2700000" blurRad="0" rotWithShape="0">
              <a:srgbClr val="00cc99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Замена календарных годов приведет к увеличению размера пособия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637000"/>
            <a:ext cx="64764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492360" y="2637000"/>
            <a:ext cx="648000" cy="360360"/>
          </a:xfrm>
          <a:prstGeom prst="line">
            <a:avLst/>
          </a:prstGeom>
          <a:ln w="19080">
            <a:solidFill>
              <a:srgbClr val="00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2BF-9350-48A4-BDF1-54B29971F4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1DE-56F7-4A56-AD7C-EEB47A67B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539640" y="1773360"/>
            <a:ext cx="82090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ff"/>
                </a:solidFill>
                <a:latin typeface="Tahoma"/>
              </a:rPr>
              <a:t>Ежемесячное пособие по уходу за ребенком выплачивается  </a:t>
            </a: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только по одному месту работы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(по выбору застрахованного лица)   -   ч. 2, 2.1 ст.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орядок учета заработка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-     применяется порядок учета заработка, предусмотренный </a:t>
            </a:r>
            <a:r>
              <a:rPr b="0" lang="en-US" sz="19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ч. 2 и ч. 2.1 ст. 13 Закона, т.е. пособие выплачивается по одному месту работы по выбору застрахованного лица 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с учетом заработка у других работодателей.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 u="sng">
                <a:solidFill>
                  <a:srgbClr val="0000ff"/>
                </a:solidFill>
                <a:uFillTx/>
                <a:latin typeface="Tahoma"/>
              </a:rPr>
              <a:t>При расчете  пособия</a:t>
            </a: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ru-RU" sz="1900" spc="-1" strike="noStrike">
                <a:solidFill>
                  <a:srgbClr val="003300"/>
                </a:solidFill>
                <a:latin typeface="Tahoma"/>
              </a:rPr>
              <a:t>   –   представляются справка (справки)  о заработке, из которого исчисляется пособие, от другого (других)  работодател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1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4053-13BC-4BA4-B342-3BB9AE4F7D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94B3-E67A-43F9-A94D-AF1A60E33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Работница оформила отпуск по уходу за ребенком с 1 марта 2011 года, работая в </a:t>
            </a:r>
            <a:r>
              <a:rPr b="0" lang="ru-RU" sz="1600" spc="-1" strike="noStrike" u="sng">
                <a:solidFill>
                  <a:srgbClr val="003300"/>
                </a:solidFill>
                <a:uFillTx/>
                <a:latin typeface="Tahoma"/>
              </a:rPr>
              <a:t>фирме «Сокол»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с  11 января 2011 год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расчетном периоде она работала в организациях «А» и «Б» и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09 г. в   организации «А» -  15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в 2010 г. в   организации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«Б»  -  230 000 руб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Пособие  исчисляется фирмой «Сокол» из заработка за расчетный период, полученного в организациях «А» и «Б»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150 000 руб. + 230 000 руб.</a:t>
            </a:r>
            <a:br>
              <a:rPr sz="1600"/>
            </a:br>
            <a:r>
              <a:rPr b="0" lang="ru-RU" sz="1400" spc="-1" strike="noStrike">
                <a:solidFill>
                  <a:srgbClr val="003300"/>
                </a:solidFill>
                <a:latin typeface="Tahoma"/>
              </a:rPr>
              <a:t>(на основании представленных справок о заработной плате, на которую начислены  страховые взносы в ФСС РФ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- 520, 55 руб. (150000 + 230000) : 730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Среднемесячный заработок -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15824,72 руб. (520,55 х 30,4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Размер пособия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 -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6329,89 руб.</a:t>
            </a:r>
            <a:r>
              <a:rPr b="0" lang="ru-RU" sz="16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3300"/>
                </a:solidFill>
                <a:latin typeface="Tahoma"/>
              </a:rPr>
              <a:t>(15824,72 х 40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r>
              <a:rPr b="0" lang="ru-RU" sz="1600" spc="-1" strike="noStrike">
                <a:solidFill>
                  <a:srgbClr val="993300"/>
                </a:solidFill>
                <a:latin typeface="Tahoma"/>
              </a:rPr>
              <a:t> Заработок, полученный в 2011 г. в  фирме « Сокол», в расчете пособия  не участву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758520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476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римеры расчета пособия по уходу за ребенком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FDDB-1145-4D34-86ED-EE7E194A67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3208-AAE9-4C67-BF57-D23C6487EA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87138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мер №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ботница ушла в отпуск по уходу за ребенко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с 15 января 2011 г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На момент ухода в отпуск  она работает в ООО «Ромашка» и ООО «Гвоздика»  и в течение двух предшествующих календарных лет получил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	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2009  году </a:t>
            </a: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        </a:t>
            </a:r>
            <a:r>
              <a:rPr b="1" lang="en-US" sz="1600" spc="-1" strike="noStrike" u="sng">
                <a:solidFill>
                  <a:srgbClr val="0000ff"/>
                </a:solidFill>
                <a:uFillTx/>
                <a:latin typeface="Tahoma"/>
              </a:rPr>
              <a:t>в  2010 год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 «Ромашка»                350 000 руб.           250 000 руб.</a:t>
            </a:r>
            <a:br>
              <a:rPr sz="1600"/>
            </a:b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ОО «Гвоздика»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             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200 000 руб.           150 000 руб</a:t>
            </a: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.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 -</a:t>
            </a:r>
            <a:r>
              <a:rPr b="0" i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0" i="1" lang="en-US" sz="1600" spc="-1" strike="noStrike" u="sng">
                <a:solidFill>
                  <a:srgbClr val="006600"/>
                </a:solidFill>
                <a:uFillTx/>
                <a:latin typeface="Tahoma"/>
              </a:rPr>
              <a:t>не учитывае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ООО «Звезда»                    100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Расчет пособия делаем по одному месту работы (по выбору)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2 ст. 13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)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ff"/>
                </a:solidFill>
                <a:uFillTx/>
                <a:latin typeface="Tahoma"/>
              </a:rPr>
              <a:t>Например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, пособие выплачивает ООО «Ромашка»,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заработок  у ООО «Гвоздика» не учитывае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Учитываем заработок  у другого работодателя  в  ООО «Звезда» </a:t>
            </a: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(ч. 1 ст. 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Заработок состави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09 г. -  450 000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350 000 руб. (ООО «Ромашка») + 100 000 руб.(ООО «Звезда»)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за 2010 г. -  250 000 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(ООО «Ромашка»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Общий заработок для исчисления  пособия: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415 000 (из 450 000) руб.  + 250 000 руб. = 665 000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ий дневной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665 000 руб. : 730 = 910,96 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Среднемесячный  заработок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-  910,96 руб. х 30,4 =27 693,18 руб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81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Размер 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                       -  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27 693,18 х 40%=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11 077,27 руб.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7605720" y="0"/>
            <a:ext cx="154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1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067D-6B33-425D-B406-13AB10D805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r>
              <a:rPr b="0" lang="en-US" sz="32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lang="en-US" sz="20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заработка в 12             определение среднего заработка в 24 календарных месяцах, перед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месяцем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, предшествующих году наступления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наступления страхового случая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Arial"/>
              </a:rPr>
              <a:t>страхового случа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среднего дневного                       определение среднего дневного зарабо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(общий заработок  делим                (общий заработок делим на 730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на кол-во календарных дней, за который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лучен заработок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определение  среднего дневного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заработка из предельной величи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базы (415000 : 365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сравнение данных, полученных                          не делае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ри действии 2 и 3 ша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из меньшей величины определяем                    из среднего дневного заработка, получен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размер  дневного пособия                                   в действии 2, определяем размер дневн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                                                                                        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пособ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– определение суммы пособия                              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26028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7947-EF99-48F7-861B-A36B1A9C6A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0B41-3E35-472A-833A-334BAA7727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50920" y="1557360"/>
            <a:ext cx="4321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 назначаются и выплачиваю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месту работы (службы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иной деятельности),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(ч. 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AutoShape 9"/>
          <p:cNvSpPr/>
          <p:nvPr/>
        </p:nvSpPr>
        <p:spPr>
          <a:xfrm>
            <a:off x="250920" y="3357720"/>
            <a:ext cx="424980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34955" dir="18672881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en-US" sz="1600" spc="-1" strike="noStrike">
                <a:solidFill>
                  <a:srgbClr val="0000cc"/>
                </a:solidFill>
                <a:latin typeface="Tahoma"/>
              </a:rPr>
              <a:t>2.</a:t>
            </a:r>
            <a:r>
              <a:rPr b="0" lang="en-US" sz="15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 родам, по уходу за ребенко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по одному</a:t>
            </a:r>
            <a:r>
              <a:rPr b="1" i="1" lang="en-US" sz="1400" spc="-1" strike="noStrike">
                <a:solidFill>
                  <a:srgbClr val="003300"/>
                </a:solidFill>
                <a:latin typeface="Tahoma"/>
              </a:rPr>
              <a:t>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ту работы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службы, иной деятельности)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если (ч. 2.1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AutoShape 10"/>
          <p:cNvSpPr/>
          <p:nvPr/>
        </p:nvSpPr>
        <p:spPr>
          <a:xfrm>
            <a:off x="5076720" y="1557360"/>
            <a:ext cx="388800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у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х было занято и в дву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едшествующих календарных годах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5003640" y="3357720"/>
            <a:ext cx="396108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27008" dir="18416092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</a:t>
            </a:r>
            <a:r>
              <a:rPr b="1" lang="en-US" sz="12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в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у  други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ботодателей 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250920" y="5229360"/>
            <a:ext cx="424980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ffff"/>
              </a:gs>
              <a:gs pos="50000">
                <a:srgbClr val="ffffcc"/>
              </a:gs>
              <a:gs pos="100000">
                <a:srgbClr val="9bffff"/>
              </a:gs>
            </a:gsLst>
            <a:lin ang="5400000"/>
          </a:gradFill>
          <a:ln w="9360">
            <a:solidFill>
              <a:srgbClr val="00ccff"/>
            </a:solidFill>
            <a:miter/>
          </a:ln>
          <a:effectLst>
            <a:outerShdw dist="125751" dir="18900000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№ </a:t>
            </a:r>
            <a:r>
              <a:rPr b="1" lang="ru-RU" sz="1600" spc="-1" strike="noStrike">
                <a:solidFill>
                  <a:srgbClr val="0000cc"/>
                </a:solidFill>
                <a:latin typeface="Tahoma"/>
              </a:rPr>
              <a:t>3.</a:t>
            </a:r>
            <a:r>
              <a:rPr b="0" lang="ru-RU" sz="1500" spc="-1" strike="noStrike">
                <a:solidFill>
                  <a:srgbClr val="0066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Пособия по временно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етрудоспособности, по беременности и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родам</a:t>
            </a:r>
            <a:r>
              <a:rPr b="1" lang="ru-RU" sz="16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назначаются и выплачиваются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либо по порядку, изложенному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в варианте № 1,  либо  в  варианте № 2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Tahoma"/>
              </a:rPr>
              <a:t>если   (ч. 2.2 ст. 13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AutoShape 19"/>
          <p:cNvSpPr/>
          <p:nvPr/>
        </p:nvSpPr>
        <p:spPr>
          <a:xfrm>
            <a:off x="5003640" y="5157720"/>
            <a:ext cx="3961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99ccff"/>
            </a:solidFill>
            <a:miter/>
          </a:ln>
          <a:effectLst>
            <a:outerShdw dist="117181" dir="18638369" blurRad="0" rotWithShape="0">
              <a:srgbClr val="99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момент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лучая застрахованное лицо занят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у нескольких работодателей, а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двух предшествующих календар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годах было занято  как  у  этих же,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так и у других работодателей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(другого работода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AutoShape 21"/>
          <p:cNvSpPr/>
          <p:nvPr/>
        </p:nvSpPr>
        <p:spPr>
          <a:xfrm>
            <a:off x="4643280" y="220500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ff"/>
              </a:gs>
              <a:gs pos="50000">
                <a:srgbClr val="ffffcc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рядок назначения и выплаты пособий с 1 января 2011 года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части 2, 2.1 и 2.2 ст. 13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AutoShape 21"/>
          <p:cNvSpPr/>
          <p:nvPr/>
        </p:nvSpPr>
        <p:spPr>
          <a:xfrm>
            <a:off x="4572000" y="4005360"/>
            <a:ext cx="433440" cy="215640"/>
          </a:xfrm>
          <a:custGeom>
            <a:avLst/>
            <a:gdLst>
              <a:gd name="textAreaLeft" fmla="*/ 0 w 433440"/>
              <a:gd name="textAreaRight" fmla="*/ 433800 w 43344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AutoShape 21"/>
          <p:cNvSpPr/>
          <p:nvPr/>
        </p:nvSpPr>
        <p:spPr>
          <a:xfrm>
            <a:off x="4572000" y="5805360"/>
            <a:ext cx="433440" cy="216000"/>
          </a:xfrm>
          <a:custGeom>
            <a:avLst/>
            <a:gdLst>
              <a:gd name="textAreaLeft" fmla="*/ 0 w 433440"/>
              <a:gd name="textAreaRight" fmla="*/ 433800 w 433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ccffcc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904-494F-4F31-9E35-81EA66A0D7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C665-D9CB-476A-839F-FF87FECE8E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179280" y="1268280"/>
            <a:ext cx="8680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е по временной нетрудоспособности, по беременности и родам назначается и выплачивается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каждому месту работы (службы, иной деятельности)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3cc"/>
                </a:solidFill>
                <a:latin typeface="Tahoma"/>
              </a:rPr>
              <a:t>на момент наступления страхового случая застрахованное лицо занято у нескольких работодателей и в двух предшествующих календарных годах  было занято у тех же  работодателей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3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404640"/>
            <a:ext cx="8785440" cy="8542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Box 2"/>
          <p:cNvSpPr/>
          <p:nvPr/>
        </p:nvSpPr>
        <p:spPr>
          <a:xfrm flipH="1">
            <a:off x="179280" y="2781360"/>
            <a:ext cx="8785440" cy="38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Иванова С.И. временная нетрудоспособность наступила с 20.01.2011 – 31.01.2011, страховой стаж 8 лет, 3 мес. (размер пособия 100%). На момент наступления  заболевания он работал в течение двух календарных лет в ООО «Ромашка» и ООО «Гвоздик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10 году 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 Ромашка»          250000 руб.        350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 Гвоздика»          150000 руб.        20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. ООО «Ромашка» -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равен (250000 + 350000) :730 = 821,92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821.92 х 12 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9863,01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. ООО «Гвоздика» -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р/дн. заработок  равен (150000 + 200000) : 730=479,45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сумма пособия  составит 479,45 х 12 =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5753,40 руб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ahoma"/>
              </a:rPr>
              <a:t>Средний заработок учитывается за каждый  календарный год в сумме не превышающей  предельную величину базы для начисления страховых взносов в ФСС РФ на соответствующий календарный год каждым страхователем (на 2009 и 2010 годы   - 415000 руб. на каждый указанный календарный год – (ч. 3.1 ст. 14) </a:t>
            </a:r>
            <a:r>
              <a:rPr b="1" i="1" lang="ru-RU" sz="1300" spc="-1" strike="noStrike">
                <a:solidFill>
                  <a:srgbClr val="800000"/>
                </a:solidFill>
                <a:latin typeface="Tahoma"/>
              </a:rPr>
              <a:t>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929-0C67-41A1-83E0-BD4191F66F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9821-917E-490C-B086-A379B927F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Box 1"/>
          <p:cNvSpPr/>
          <p:nvPr/>
        </p:nvSpPr>
        <p:spPr>
          <a:xfrm>
            <a:off x="179280" y="1125360"/>
            <a:ext cx="8785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Пособия  по  временной нетрудоспособности, по беременности и родам, ежемесячное пособие по уходу за ребенком назначаются и выплачиваются страхователем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по одному из последних мест работы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(службы, иной деятельности) по выбору застрахованного лица, если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ff"/>
                </a:solidFill>
                <a:latin typeface="Tahoma"/>
              </a:rPr>
              <a:t>на момент наступления страхового случая застрахованное лицо занято у нескольких страхователей, а в двух предшествующих календарных годах было занято у других работодателей (у другого работодателя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4"/>
          <p:cNvSpPr/>
          <p:nvPr/>
        </p:nvSpPr>
        <p:spPr>
          <a:xfrm flipV="1">
            <a:off x="2143080" y="685872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333360"/>
            <a:ext cx="8785440" cy="781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1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TextBox 1"/>
          <p:cNvSpPr/>
          <p:nvPr/>
        </p:nvSpPr>
        <p:spPr>
          <a:xfrm>
            <a:off x="250920" y="2873520"/>
            <a:ext cx="8642160" cy="38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 Сидорова В.И. временная нетрудоспособность наступила с 01.02.2011 – 28.02.2011, страховой стаж  7 лет, 3 мес. (размер пособия 80%). На момент наступления  заболевания он работал в ООО «Ромашка» и ООО «Гвоздика» и получил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c00000"/>
                </a:solidFill>
                <a:latin typeface="Tahoma"/>
              </a:rPr>
              <a:t>                         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10 году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         </a:t>
            </a:r>
            <a:r>
              <a:rPr b="1" lang="ru-RU" sz="1300" spc="-1" strike="noStrike" u="sng">
                <a:solidFill>
                  <a:srgbClr val="0000ff"/>
                </a:solidFill>
                <a:uFillTx/>
                <a:latin typeface="Tahoma"/>
              </a:rPr>
              <a:t>в 2009 году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br>
              <a:rPr sz="1300"/>
            </a:br>
            <a:r>
              <a:rPr b="1" lang="en-US" sz="1300" spc="-1" strike="noStrike">
                <a:solidFill>
                  <a:srgbClr val="0033cc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Ромашка»      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Пламя»           150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000 руб.          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фирма «Заря»                                          25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Пособие назначает и выплачивает ООО «Ромашка»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                                                                                   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(по   выбору  работника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.   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50 000 руб.         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 2010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г.   415 000 руб. 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(из </a:t>
            </a:r>
            <a:r>
              <a:rPr b="0" lang="en-US" sz="1300" spc="-1" strike="noStrike">
                <a:solidFill>
                  <a:srgbClr val="003300"/>
                </a:solidFill>
                <a:latin typeface="Tahoma"/>
              </a:rPr>
              <a:t>3</a:t>
            </a: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50 000 руб. + 150 000 руб.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р/дневной  заработок       - (415000 + 250000) : 730 = 910,96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Дневное  пособие               - 910,96 х 80% =728,77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 indent="272880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3300"/>
                </a:solidFill>
                <a:latin typeface="Tahoma"/>
              </a:rPr>
              <a:t>Сумма пособия                   -  728,77 х 28 =</a:t>
            </a:r>
            <a:r>
              <a:rPr b="0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20405,56 руб</a:t>
            </a:r>
            <a:r>
              <a:rPr b="0" lang="ru-RU" sz="13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!</a:t>
            </a:r>
            <a:r>
              <a:rPr b="1" lang="ru-RU" sz="13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Заработок, полученный в ООО «Гвоздика»  и ООО «Ромашка»  в 2011 году,                 в расчете  данного пособия не участвует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Line 6"/>
          <p:cNvSpPr/>
          <p:nvPr/>
        </p:nvSpPr>
        <p:spPr>
          <a:xfrm flipV="1">
            <a:off x="3635280" y="4149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DC3-AAC7-47CC-8632-CD3706E725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C4231-90FE-4B57-935B-DD3E54914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Box 5"/>
          <p:cNvSpPr/>
          <p:nvPr/>
        </p:nvSpPr>
        <p:spPr>
          <a:xfrm flipH="1">
            <a:off x="179280" y="1125360"/>
            <a:ext cx="878544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3300"/>
                </a:solidFill>
                <a:latin typeface="Tahoma"/>
              </a:rPr>
              <a:t>Пособия по временной нетрудоспособности, по беременности и родам назначаются  и выплачиваются либо по всем местам работы    (вар. № 1)  либо по одному из последних мест работы (вар. № 2)  если :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3333ff"/>
                </a:solidFill>
                <a:latin typeface="Tahoma"/>
              </a:rPr>
              <a:t>на момент наступления  страхового случая застрахованное лицо было занято у нескольких работодателей, а в двух предшествующих календарных годах было  занято как у этих же, так и у других страхователей (другого страхователя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Дуга 12"/>
          <p:cNvSpPr/>
          <p:nvPr/>
        </p:nvSpPr>
        <p:spPr>
          <a:xfrm>
            <a:off x="7000920" y="5072040"/>
            <a:ext cx="46080" cy="46080"/>
          </a:xfrm>
          <a:custGeom>
            <a:avLst/>
            <a:gdLst>
              <a:gd name="textAreaLeft" fmla="*/ 23040 w 46080"/>
              <a:gd name="textAreaRight" fmla="*/ 46440 w 46080"/>
              <a:gd name="textAreaTop" fmla="*/ 0 h 46080"/>
              <a:gd name="textAreaBottom" fmla="*/ 23040 h 46080"/>
            </a:gdLst>
            <a:ahLst/>
            <a:rect l="textAreaLeft" t="textAreaTop" r="textAreaRight" b="textAreaBottom"/>
            <a:pathLst>
              <a:path stroke="0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  <a:lnTo>
                  <a:pt x="23019" y="23019"/>
                </a:lnTo>
                <a:close/>
              </a:path>
              <a:path fill="none" w="46038" h="46037">
                <a:moveTo>
                  <a:pt x="23019" y="0"/>
                </a:moveTo>
                <a:lnTo>
                  <a:pt x="-19093" y="-12529"/>
                </a:lnTo>
                <a:arcTo wR="-9749" hR="-9749" stAng="-9805885" swAng="5400000"/>
              </a:path>
            </a:pathLst>
          </a:custGeom>
          <a:noFill/>
          <a:ln w="9360">
            <a:solidFill>
              <a:srgbClr val="fd823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7582680" y="0"/>
            <a:ext cx="138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5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3336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рядок  назначения  и  расчета  пособия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в соответствии с частью 2.2. статьи 13 Закона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179280" y="2538360"/>
            <a:ext cx="878544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ff"/>
                </a:solidFill>
                <a:uFillTx/>
                <a:latin typeface="Tahoma"/>
              </a:rPr>
              <a:t>Пример: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У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Иванова С.И. временная нетрудоспособность наступила  с 20.01.2011 – 31.01.2011, страховой стаж 8 лет, 3 мес. ( размер пособия 100%). На момент наступления  заболевания  он работал  в течение двух календарных лет в ООО «Лилия» и ООО «Астра»  и получил: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          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</a:t>
            </a:r>
            <a:r>
              <a:rPr b="1" lang="ru-RU" sz="1300" spc="-1" strike="noStrike" u="sng">
                <a:solidFill>
                  <a:srgbClr val="c00000"/>
                </a:solidFill>
                <a:uFillTx/>
                <a:latin typeface="Tahoma"/>
              </a:rPr>
              <a:t>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 2010 году</a:t>
            </a:r>
            <a:r>
              <a:rPr b="1" lang="ru-RU" sz="1300" spc="-1" strike="noStrike">
                <a:solidFill>
                  <a:srgbClr val="0033cc"/>
                </a:solidFill>
                <a:latin typeface="Tahoma"/>
              </a:rPr>
              <a:t>              </a:t>
            </a:r>
            <a:r>
              <a:rPr b="1" lang="ru-RU" sz="1300" spc="-1" strike="noStrike" u="sng">
                <a:solidFill>
                  <a:srgbClr val="0033cc"/>
                </a:solidFill>
                <a:uFillTx/>
                <a:latin typeface="Tahoma"/>
              </a:rPr>
              <a:t>в 2009  году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            250 000 руб.             350 000 руб.</a:t>
            </a:r>
            <a:br>
              <a:rPr sz="1300"/>
            </a:b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   ООО «Астра»                150 000 руб.             200 000 руб.</a:t>
            </a:r>
            <a:r>
              <a:rPr b="1" i="1" lang="ru-RU" sz="13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фирма «Звезда»                                            3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1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 каждым страхователем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ООО «Лилия»  и  ООО «Астра»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ff0000"/>
                </a:solidFill>
                <a:uFillTx/>
                <a:latin typeface="Tahoma"/>
              </a:rPr>
              <a:t>Внимание</a:t>
            </a:r>
            <a:r>
              <a:rPr b="1" lang="ru-RU" sz="1300" spc="-1" strike="noStrike">
                <a:solidFill>
                  <a:srgbClr val="ff0000"/>
                </a:solidFill>
                <a:latin typeface="Tahoma"/>
              </a:rPr>
              <a:t>!</a:t>
            </a:r>
            <a:r>
              <a:rPr b="1" lang="ru-RU" sz="1300" spc="-1" strike="noStrike">
                <a:solidFill>
                  <a:srgbClr val="800000"/>
                </a:solidFill>
                <a:latin typeface="Tahoma"/>
              </a:rPr>
              <a:t> Заработок, полученный в фирме «Звезда», не учитывается (ч. 1 ст. 14)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ff"/>
                </a:solidFill>
                <a:latin typeface="Tahoma"/>
              </a:rPr>
              <a:t>2.</a:t>
            </a: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 Расчет пособия по одному из  последних мест работы, например, ООО «Лилия»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1) Заработок по годам составит: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 u="sng">
                <a:solidFill>
                  <a:srgbClr val="003300"/>
                </a:solidFill>
                <a:uFillTx/>
                <a:latin typeface="Tahoma"/>
              </a:rPr>
              <a:t>за 2009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 - 350 000 ( ООО «Лилия») + 300 000 (фирма «Звезда»)  + 200 000  (ООО «Астра»)  = 850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09 г.    заработок ограничиваем суммой в </a:t>
            </a:r>
            <a:r>
              <a:rPr b="1" lang="en-US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15 000 руб. ,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за 2010 г.    250 000 руб. + 150 000 руб. = 400 000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2) Ср/дневной заработок равен (415 000 + 400 000 ) : 730 = 1116.44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3) Дневное пособие           - 1116,44 руб. 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3300"/>
                </a:solidFill>
                <a:latin typeface="Tahoma"/>
              </a:rPr>
              <a:t>4) Сумма    пособия            - 1116,44  х 12=</a:t>
            </a:r>
            <a:r>
              <a:rPr b="1" lang="ru-RU" sz="13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300" spc="-1" strike="noStrike">
                <a:solidFill>
                  <a:srgbClr val="0000ff"/>
                </a:solidFill>
                <a:latin typeface="Tahoma"/>
              </a:rPr>
              <a:t>13397,28 руб.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A3F-635C-4D12-9E7C-F48A0D2D14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9280" y="333360"/>
            <a:ext cx="8785440" cy="936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Пошаговый расчет  пособий</a:t>
            </a:r>
            <a:br>
              <a:rPr sz="2200"/>
            </a:br>
            <a:r>
              <a:rPr b="0" lang="en-US" sz="1800" spc="-1" strike="noStrike">
                <a:solidFill>
                  <a:srgbClr val="006600"/>
                </a:solidFill>
                <a:latin typeface="Tahoma"/>
              </a:rPr>
              <a:t>(сравнительная таблиц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37960" y="1363680"/>
            <a:ext cx="3928320" cy="53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0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1 -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12 календарных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 перед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месяцем наступления страхов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2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кол-во календарных дней, з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который получен заработок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3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из предельной величины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базы (415000 : 365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4</a:t>
            </a:r>
            <a:r>
              <a:rPr b="1" lang="en-US" sz="1600" spc="-1" strike="noStrike">
                <a:solidFill>
                  <a:srgbClr val="9933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-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сравнение данных, полученных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при действии 2 и 3 шаг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меньшей величины определяем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размер  дневного пособия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Tahoma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Tahoma"/>
              </a:rPr>
              <a:t>– 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719600" y="1341360"/>
            <a:ext cx="4424400" cy="53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ahoma"/>
              </a:rPr>
              <a:t>                      </a:t>
            </a:r>
            <a:r>
              <a:rPr b="1" lang="en-US" sz="1800" spc="-1" strike="noStrike" u="sng">
                <a:solidFill>
                  <a:srgbClr val="3333ff"/>
                </a:solidFill>
                <a:uFillTx/>
                <a:latin typeface="Tahoma"/>
              </a:rPr>
              <a:t>2011 год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в 24 календарных месяцах</a:t>
            </a:r>
            <a:r>
              <a:rPr b="1" lang="en-US" sz="1400" spc="-1" strike="noStrike" u="sng">
                <a:solidFill>
                  <a:srgbClr val="003300"/>
                </a:solidFill>
                <a:uFillTx/>
                <a:latin typeface="Tahoma"/>
              </a:rPr>
              <a:t>, предшествующих году наступления страхового случ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реднего дневного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заработка (общий заработок  делим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а 730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3300"/>
                </a:solidFill>
                <a:latin typeface="Tahoma"/>
              </a:rPr>
              <a:t>,</a:t>
            </a: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не делаетс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из среднего дневного заработка определяем размер дневного заработка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ahoma"/>
              </a:rPr>
              <a:t>определение суммы пособия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A650-45B8-416F-98A1-60709578244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8F8E-8BF9-41B6-83A2-BF632D80A4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Скругленный прямоугольник 4"/>
          <p:cNvSpPr/>
          <p:nvPr/>
        </p:nvSpPr>
        <p:spPr>
          <a:xfrm>
            <a:off x="1332000" y="2349360"/>
            <a:ext cx="6786360" cy="1284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1. Заработок за два календарных года, предшествующих году наступления страхового случая, в том числе  за время  работы у другого работодателя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Скругленный прямоугольник 5"/>
          <p:cNvSpPr/>
          <p:nvPr/>
        </p:nvSpPr>
        <p:spPr>
          <a:xfrm>
            <a:off x="1332000" y="4076640"/>
            <a:ext cx="6786360" cy="9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2. В заработок включаются все  виды выплат  и иных вознаграждений в пользу  работника, на которые начислены страховые взносы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Скругленный прямоугольник 6"/>
          <p:cNvSpPr/>
          <p:nvPr/>
        </p:nvSpPr>
        <p:spPr>
          <a:xfrm>
            <a:off x="1332000" y="5445000"/>
            <a:ext cx="6786360" cy="7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3. Средний  дневной заработок определяется путем деления суммы начисленного заработка на 73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Стрелка вниз 7"/>
          <p:cNvSpPr/>
          <p:nvPr/>
        </p:nvSpPr>
        <p:spPr>
          <a:xfrm>
            <a:off x="4284720" y="1989000"/>
            <a:ext cx="484200" cy="3603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7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333360"/>
            <a:ext cx="8785440" cy="1655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Определение среднего заработка для расчета пособий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по временной нетрудоспособности, по беременности и родам,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00"/>
                </a:solidFill>
                <a:latin typeface="Tahoma"/>
              </a:rPr>
              <a:t>ежемесячного пособия по уходу за ребенком  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(ч. 2. ст. 14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Стрелка вниз 7"/>
          <p:cNvSpPr/>
          <p:nvPr/>
        </p:nvSpPr>
        <p:spPr>
          <a:xfrm>
            <a:off x="4356000" y="364500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Стрелка вниз 7"/>
          <p:cNvSpPr/>
          <p:nvPr/>
        </p:nvSpPr>
        <p:spPr>
          <a:xfrm>
            <a:off x="4356000" y="5013360"/>
            <a:ext cx="360360" cy="431640"/>
          </a:xfrm>
          <a:prstGeom prst="downArrow">
            <a:avLst>
              <a:gd name="adj1" fmla="val 50000"/>
              <a:gd name="adj2" fmla="val 59890"/>
            </a:avLst>
          </a:prstGeom>
          <a:gradFill rotWithShape="0">
            <a:gsLst>
              <a:gs pos="0">
                <a:srgbClr val="66ff99"/>
              </a:gs>
              <a:gs pos="50000">
                <a:srgbClr val="a3ffff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CB3C-758B-4BD5-B184-13205DC48A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1B49-D298-4D5C-A82F-5F4493AC0C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2892600"/>
            <a:ext cx="24685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Tahoma"/>
              </a:rPr>
              <a:t>таблица № 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179280" y="404640"/>
            <a:ext cx="8785440" cy="1656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Особенности определения среднего заработка для исчисления пособий 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за период до 1 января 2010 года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а для лиц, работающих по трудовым договорам в организациях и у индивидуальных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предпринимателей, применяющих специальные налоговые режимы,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- за период до 1 января 2011 года </a:t>
            </a:r>
            <a:r>
              <a:rPr b="0" i="1" lang="en-US" sz="1600" spc="-1" strike="noStrike">
                <a:solidFill>
                  <a:srgbClr val="006600"/>
                </a:solidFill>
                <a:latin typeface="Tahoma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Скругленный прямоугольник 4"/>
          <p:cNvSpPr/>
          <p:nvPr/>
        </p:nvSpPr>
        <p:spPr>
          <a:xfrm>
            <a:off x="826920" y="2565360"/>
            <a:ext cx="756144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 средний заработок  включаются  все  виды выплат и  иных вознаграждений  в пользу работника, на которые начисляются страховые  взносы в ФСС и которые не превышают предельную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величину базы для начисления страховых взносов  в Фонд, установленную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в 2010 году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Скругленный прямоугольник 4"/>
          <p:cNvSpPr/>
          <p:nvPr/>
        </p:nvSpPr>
        <p:spPr>
          <a:xfrm>
            <a:off x="900000" y="4581360"/>
            <a:ext cx="7488360" cy="1009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ffff"/>
              </a:gs>
              <a:gs pos="50000">
                <a:srgbClr val="ffffda"/>
              </a:gs>
              <a:gs pos="100000">
                <a:srgbClr val="a3ffff"/>
              </a:gs>
            </a:gsLst>
            <a:lin ang="5400000"/>
          </a:gradFill>
          <a:ln w="22320">
            <a:solidFill>
              <a:srgbClr val="00cc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Средний заработок учитывается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Tahoma"/>
              </a:rPr>
              <a:t>за каждый календарный год</a:t>
            </a:r>
            <a:r>
              <a:rPr b="0" lang="en-US" sz="1600" spc="-1" strike="noStrike">
                <a:solidFill>
                  <a:srgbClr val="003300"/>
                </a:solidFill>
                <a:latin typeface="Tahoma"/>
              </a:rPr>
              <a:t> в сумме, не превышающей предельную величину базы для начисления страховых взносов в Фонд, установленную в 2010 году (415 000 руб.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346640" y="2070000"/>
            <a:ext cx="504720" cy="486000"/>
          </a:xfrm>
          <a:custGeom>
            <a:avLst/>
            <a:gdLst>
              <a:gd name="textAreaLeft" fmla="*/ 95040 w 504720"/>
              <a:gd name="textAreaRight" fmla="*/ 409680 w 50472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 rot="5400000">
            <a:off x="4383000" y="4122360"/>
            <a:ext cx="431640" cy="486000"/>
          </a:xfrm>
          <a:custGeom>
            <a:avLst/>
            <a:gdLst>
              <a:gd name="textAreaLeft" fmla="*/ 81360 w 431640"/>
              <a:gd name="textAreaRight" fmla="*/ 350280 w 431640"/>
              <a:gd name="textAreaTop" fmla="*/ 133200 h 486000"/>
              <a:gd name="textAreaBottom" fmla="*/ 35280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929"/>
                </a:moveTo>
                <a:lnTo>
                  <a:pt x="12566" y="5929"/>
                </a:lnTo>
                <a:lnTo>
                  <a:pt x="12566" y="0"/>
                </a:lnTo>
                <a:lnTo>
                  <a:pt x="21600" y="10800"/>
                </a:lnTo>
                <a:lnTo>
                  <a:pt x="12566" y="21600"/>
                </a:lnTo>
                <a:lnTo>
                  <a:pt x="12566" y="15671"/>
                </a:lnTo>
                <a:lnTo>
                  <a:pt x="0" y="15671"/>
                </a:lnTo>
                <a:lnTo>
                  <a:pt x="4075" y="10800"/>
                </a:lnTo>
                <a:lnTo>
                  <a:pt x="0" y="5929"/>
                </a:lnTo>
                <a:close/>
              </a:path>
            </a:pathLst>
          </a:custGeom>
          <a:gradFill rotWithShape="0">
            <a:gsLst>
              <a:gs pos="0">
                <a:srgbClr val="66ff99"/>
              </a:gs>
              <a:gs pos="50000">
                <a:srgbClr val="66ffff"/>
              </a:gs>
              <a:gs pos="100000">
                <a:srgbClr val="66ff99"/>
              </a:gs>
            </a:gsLst>
            <a:lin ang="0"/>
          </a:gra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BB71-4AA9-4E5F-BD91-DEB6580C04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50000">
              <a:srgbClr val="ffffcc"/>
            </a:gs>
            <a:gs pos="100000">
              <a:srgbClr val="cc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69EA-5B0C-4B80-8105-25CBD3043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7587720" y="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ahoma"/>
              </a:rPr>
              <a:t>таблица № 9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476280"/>
            <a:ext cx="8785440" cy="792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b9ffff"/>
              </a:gs>
              <a:gs pos="50000">
                <a:srgbClr val="ffffcc"/>
              </a:gs>
              <a:gs pos="100000">
                <a:srgbClr val="b9ffff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00"/>
                </a:solidFill>
                <a:latin typeface="Tahoma"/>
              </a:rPr>
              <a:t>Особенности исчисления и выплаты пособий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Box 1"/>
          <p:cNvSpPr/>
          <p:nvPr/>
        </p:nvSpPr>
        <p:spPr>
          <a:xfrm>
            <a:off x="250920" y="1628640"/>
            <a:ext cx="8642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1.  Пособия исчисляются из МРОТ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в случаях если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двух  календарных годах, предшествующих году наступления страхового случая, отсутствует заработная плата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50720" algn="just">
              <a:buClr>
                <a:srgbClr val="0033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средний месячный заработок составляет ниже МРОТ.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МРОТ применяется без учета районного коэффициента                        (ч. 1.1 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.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Tahoma"/>
              </a:rPr>
              <a:t>При неполном рабочем времени</a:t>
            </a:r>
            <a:r>
              <a:rPr b="1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средний заработок</a:t>
            </a: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в </a:t>
            </a:r>
            <a:r>
              <a:rPr b="0" lang="en-US" sz="1800" spc="-1" strike="noStrike" u="sng">
                <a:solidFill>
                  <a:srgbClr val="003300"/>
                </a:solidFill>
                <a:uFillTx/>
                <a:latin typeface="Tahoma"/>
              </a:rPr>
              <a:t>указанных выше случаях</a:t>
            </a:r>
            <a:r>
              <a:rPr b="0" lang="en-US" sz="1800" spc="-1" strike="noStrike">
                <a:solidFill>
                  <a:srgbClr val="003300"/>
                </a:solidFill>
                <a:latin typeface="Tahoma"/>
              </a:rPr>
              <a:t> определяется  пропорционально продолжительности рабочего времени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Tahoma"/>
              </a:rPr>
              <a:t>Так при работе на 0,5 ставки пособие  надо исчислять                          из 2165 руб. (50% МРОТ) (ч. 1.1 ст. 14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A1BC-AFC8-44D7-B89E-A1A93ABF0E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1:35:43Z</dcterms:created>
  <dc:creator>Orlova_0001</dc:creator>
  <dc:description/>
  <dc:language>en-US</dc:language>
  <cp:lastModifiedBy>USER</cp:lastModifiedBy>
  <dcterms:modified xsi:type="dcterms:W3CDTF">2010-12-16T06:34:27Z</dcterms:modified>
  <cp:revision>304</cp:revision>
  <dc:subject/>
  <dc:title>Слайд 1</dc:title>
</cp:coreProperties>
</file>